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B8D-5607-4BE6-B61E-3CEF5817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2F1-BD8E-4136-B871-1A96D1ED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408-30B6-40CE-A858-0EF5A1A5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46F-7752-4031-946B-1AF43453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FA5A-96EE-4C48-9419-D9823A85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577-2F61-4547-835D-45FC5485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EC27-FFEE-4064-8A66-7473767A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0B7-AB9F-43B7-B6B6-3B5F27AA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092-3619-45D9-AE7A-4DE755D7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CAD-2CA1-4F91-A8F7-78C918AA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E94-434F-42F3-A776-DE239700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6FE-41A7-4207-91FA-C4A11AB0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730E-D2B4-45CE-B8A0-897B0C445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monografias.com/trabajos7/plane/plane.s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0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BASTECIMIEN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32360" y="1413000"/>
            <a:ext cx="3240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una de las etapas o función logística llamada comúnmente “Cadena de Suministros”, mediante la cual se provee a una empresa de todo el material necesario para su funcionami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e concepto implica incorporar en la definición de proceso todas aquellas actividades que se relacionan con la compra o contratación, desde la detección de necesidades hasta la extinción de la vida útil del bien o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1403200">
            <a:off x="684360" y="2060640"/>
            <a:ext cx="38671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Esto sólo es una vista previa. Para descargar la plantilla, haga clic en el botón Descargar ahora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bjetivos específicos del abastecimient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ner la continuidad del abastecimi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ar precios just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tar deterioros, duplicidades, desperdicios, etc., buscando calidad adecu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ar fuentes de suministros, alternativas y localizar nuevos productos y 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ner costos bajos en el departamento, sin desmejorar la actu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udiar e investigar nuevos procedimientos continuamente; preocuparse por la permanente capacitación del personal; y, mantener informado al gerente de logística o gerente general acerca de la marcha del departamen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Esto sólo es una vista previa. Para descargar la plantilla, haga clic en el botón Descargar ahora.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ceso de abastecimien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333000"/>
            <a:ext cx="3745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álculo de neces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ra o adquisi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tención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macenamiento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spacho o distribución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rol de stock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tilización de desperdicio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7840" y="1700280"/>
            <a:ext cx="239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16360" y="1125360"/>
            <a:ext cx="3048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Esto sólo es una vista previa. Para descargar la plantilla, haga clic en el botón Descargar ahora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4005360"/>
            <a:ext cx="8064360" cy="15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asificación funcion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entra en la resolución de los problemas técnicos y orgánicos en el abastecimie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981000"/>
            <a:ext cx="66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ues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s de consum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Esto sólo es una vista previa. Para descargar la plantilla, haga clic en el botón Descargar ahora.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27280" y="2602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04040" y="215640"/>
            <a:ext cx="787536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asificación en el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laneamiento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logí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3080" y="1628640"/>
            <a:ext cx="6880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Subsistencias, Víve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Armas, vehículos, vestuar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Combustibles y lubrica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. Repue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. Muni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643280" y="3716280"/>
            <a:ext cx="288144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Esto sólo es una vista previa. Para descargar la plantilla, haga clic en el botón Descargar ahora.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47640" y="33336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7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260280"/>
            <a:ext cx="61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lización de un ped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907920"/>
            <a:ext cx="808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rá iniciarlo a través de la ayuda directa de la Dirección de Abastecimientos de la Armada y comprar a través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9120" y="1865160"/>
            <a:ext cx="772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Director de Abastecimientos es el responsable de legalizar las Órdenes de Compra conjuntamente con el Jefe del Departamento de Adquisici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Direcciones Técnicas son las responsables de elaborar la Solicitud de Compra Local, especificaciones técnicas y legalizar las factu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Reparto Usuario es el responsable de elaborar el Pedido de Repuestos, y legalizar las facturas una vez recibido el material. La compra directa por intermedio de las Agregadurías nav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ecificaciones Técnicas y cantidad del requerimiento solici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aturaleza del pedido si es de trámite urgente o normal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Jefe del Centro de Abastecimientos es el responsable de recibir el material y realiza la entrega al Reparto Usuari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Esto sólo es una vista previa. Para descargar la plantilla, haga clic en el botón Descargar ahora.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nidad de abastecimiento militar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2920" y="980640"/>
            <a:ext cx="73659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ISIÓN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lanificar, coordinar, y ejecutar las actividades de almacenamiento del material de guerra común, lubricantes, partes y repuestos, para uso de la Fuerza Armada Nacional, así como controlar dicho abasteci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visión de abaste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partamento de Almace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cciones de Recepción y Despacho, Control y Existencia, Parque N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sen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un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bastecer el Material de Guerra Común a los Componentes de la F.A.N. y Dependencias del Ministerio de la Defensa, previa autorización del Director de Armamento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tener al día los requerimientos de abastecimiento de material de guerra comú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omar las acciones necesarias para mantener los niveles de reserva de Material de Guerra Común para suplir a la Fuerza Armada Nacional en caso necesario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ordinar el mantenimiento de todo el material almacenado en los Depósi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aluar las estadísticas del consumo de material de guerra común a efectos de planificación de las necesidades futur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OS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2:10:22Z</dcterms:created>
  <dc:creator>Freddy </dc:creator>
  <dc:description/>
  <dc:language>en-US</dc:language>
  <cp:lastModifiedBy>Gabriela Contreras</cp:lastModifiedBy>
  <dcterms:modified xsi:type="dcterms:W3CDTF">2008-07-03T22:54:48Z</dcterms:modified>
  <cp:revision>3</cp:revision>
  <dc:subject/>
  <dc:title>ABASTECIMIENTO </dc:title>
</cp:coreProperties>
</file>